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679C-BAF6-41C1-B7F1-4471AD324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2070-38FF-47BA-A2FB-189A4783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98D0-DC05-450C-AA94-A6D72278F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9025-3A54-44D8-ACA9-7A40BA838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FAAA-461A-491A-80C6-4F1D75CB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C7B5-B408-4105-8C2E-9FCFBA4D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2538-198F-4905-A636-03777054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5CEA-A44E-4371-928F-F2BC9C95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61DC-FE2C-4E70-A20F-1540FDA0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03AF-DF6F-4D55-B2C0-85690EFF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C803-D1F1-4910-BBF9-0264FBAA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E423-12AD-4389-BDD9-1CCB5132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7FB9-F476-4581-8C60-290B146E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6611-5414-4E73-A3CF-5A638121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3255-51F3-4371-B09B-3A918356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B591-F355-4051-9A2F-507B8358E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9F9F-E35A-4EE3-96FF-738E2CB6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1C7A-FF0B-4205-823E-EC5142B3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B915-D2F1-4B54-A52E-40ED290B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0ACE-9642-44ED-A3DA-8567A77F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1528-C985-40D2-8A74-9EF7D180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BA51-7055-41B4-AFD1-7B6D9436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031D-6E7D-4F53-83BE-183F02AE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4F36-4368-4C54-8716-03D5379E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9E6F-FD8A-40CB-B04A-B108A469210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D97D-19F2-4F22-98C8-B7D8DEF728E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Garamond"/>
              </a:rPr>
              <a:t>18 января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развивалась жизнь на Зем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18108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57200" y="152280"/>
            <a:ext cx="8458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ценка «3» Ответьте на вопрос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Когда и где началось развитие жизни на Земле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Какие живые существа обитали в древнем океане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Что представляли собой леса каменноугольного периода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Какие вымершие пресмыкающиеся вам известны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Когда на Земле появились разнообразные цветковые растения, птицы и млекопитающие?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ценка «4». Расположите группы животных  (млекопитающие, птицы, пресмыкающиеся, земноводные, рыбы) в порядке их происхождения друг от д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ямоугольниках напиши названия груп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. Оценка «5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ли утверждать, что батареи в  домах нагреваются за счет энергии Солнца? Ответ обосну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"/>
          <p:cNvSpPr/>
          <p:nvPr/>
        </p:nvSpPr>
        <p:spPr>
          <a:xfrm>
            <a:off x="685800" y="4800600"/>
            <a:ext cx="1447920" cy="60948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Прямая со стрелкой 5"/>
          <p:cNvCxnSpPr/>
          <p:nvPr/>
        </p:nvCxnSpPr>
        <p:spPr>
          <a:xfrm>
            <a:off x="2133720" y="5028840"/>
            <a:ext cx="915120" cy="108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92" name="Прямоугольник 6"/>
          <p:cNvSpPr/>
          <p:nvPr/>
        </p:nvSpPr>
        <p:spPr>
          <a:xfrm>
            <a:off x="3048120" y="4762440"/>
            <a:ext cx="1495440" cy="6858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Прямая со стрелкой 8"/>
          <p:cNvCxnSpPr/>
          <p:nvPr/>
        </p:nvCxnSpPr>
        <p:spPr>
          <a:xfrm>
            <a:off x="4676400" y="5095440"/>
            <a:ext cx="610200" cy="108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94" name="Прямоугольник 9"/>
          <p:cNvSpPr/>
          <p:nvPr/>
        </p:nvSpPr>
        <p:spPr>
          <a:xfrm>
            <a:off x="5334120" y="4791240"/>
            <a:ext cx="1218960" cy="6858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Прямая со стрелкой 11"/>
          <p:cNvCxnSpPr/>
          <p:nvPr/>
        </p:nvCxnSpPr>
        <p:spPr>
          <a:xfrm>
            <a:off x="6629040" y="4952520"/>
            <a:ext cx="610200" cy="108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96" name="Прямая со стрелкой 13"/>
          <p:cNvCxnSpPr/>
          <p:nvPr/>
        </p:nvCxnSpPr>
        <p:spPr>
          <a:xfrm>
            <a:off x="6629040" y="5266800"/>
            <a:ext cx="610200" cy="108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97" name="Прямоугольник 14"/>
          <p:cNvSpPr/>
          <p:nvPr/>
        </p:nvSpPr>
        <p:spPr>
          <a:xfrm>
            <a:off x="7458120" y="4724280"/>
            <a:ext cx="914400" cy="30492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5"/>
          <p:cNvSpPr/>
          <p:nvPr/>
        </p:nvSpPr>
        <p:spPr>
          <a:xfrm>
            <a:off x="7467480" y="5133960"/>
            <a:ext cx="914400" cy="30492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вхадиева</cp:lastModifiedBy>
  <dcterms:modified xsi:type="dcterms:W3CDTF">2013-01-18T07:11:0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